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B56-A397-4C92-B8CA-CF8D079E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5BB-55CD-47B9-8EE3-81451022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7CB-A7A4-49A7-960B-E5F3AE25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FE9-A91D-4BE3-9D57-95B8835C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4B1E-3429-4709-A0DC-1D685F82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8E7B-0C98-41BB-90CB-C429C567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A33C-168D-45F2-BFA5-5C1DD8E3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AF3C-68F5-4CB1-A059-81BB9C2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A20B-EED0-46EF-9F97-843FA2AF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417-2759-4586-88DB-44CC2360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8D6E-9FB3-4C49-8D1B-1BB3024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0E9-3B7D-45B6-95CD-E3AE766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E46F-7C0C-4DE4-9727-F1CCEAF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6906-27F2-44A3-AFC3-F638D710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FA31-89A0-4B14-BB77-01B94696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4D59-EE2C-4555-B3B9-4E1FBC0F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D030-4202-41A0-989B-19975478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558E-855C-417A-ADE2-1E0D9728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057A-EFA9-4A3F-A96E-0941FFFC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493F-87C5-4F31-A30B-83A1900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C050-E7AA-4153-8D2A-A22ABD67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5C8A-0805-47EE-AE2D-98E06B64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442-9E01-485D-B0DC-723C40F3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12D3-F24D-434F-84EB-325AB5C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3B55-33A7-4D85-9A04-884FD03D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8E82-17C6-4D11-A3D2-2F187B4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FF3A-BC50-438C-AF30-7C668C97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5739-92C9-4852-9C89-968F128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8BA3-86D6-4CC1-B506-A8C415BC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FAAB-1A80-4BB8-A13B-C7B2A161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A96B-A5B7-487F-9604-35372C80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431A-958E-4F81-974E-A653D363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DB2B-B966-4539-BF12-5EA02624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B79-974F-41DA-9F0A-AB827CCA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A3FF-BA9D-492C-8C59-B2C724B3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2A7E-8653-4758-8FD7-BCA8D4D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CF37-112B-4B24-AD20-189654D6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1562-B1A0-4862-95D3-938CBE32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F310-D5CF-4A93-9479-FED8E8C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87B8-07AC-4555-BB0D-7EFBA19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222F-3AF9-4F0F-B51A-221F64C5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9F0E-CFEF-4BBB-A5EB-8314B091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84F3-44EA-496C-B1B7-D359D9B6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7EA9-B93D-4595-8CCA-A5B887CD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8D8-E85B-4EB9-BB2B-29BFEA6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7F95-438E-4B5E-8726-3AB87AE4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7750-6EC8-4122-BEC8-368737DF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636E-2C1E-4844-BF14-36533238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84B6C-9F5A-4453-9B8B-1776419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DCA4-10B8-49E6-BE02-EC8F49C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C681-E5E8-47D4-8ACF-9908D3A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56B2-D2C3-41D6-8689-EEB6EC8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9C6EB-62C0-43A8-B282-669C3F32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21CB-ECB0-4D3B-A980-7558B99B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504C-C434-435E-98B3-0C59BF39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5DF-F479-49B0-8C84-9BE5CD84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BEBC3-95D8-45E8-B919-BCC57A6D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934-39A3-4418-8FF7-FB32FD8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C6D-25C2-410C-B21B-3032DE0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26C-60D1-4A17-B710-751B500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7F0C-1CD1-4409-93BE-072C1FF25FE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8DA-9DF1-4496-9ABE-D5F5AA5C9D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F4A-F34D-4C48-8B9C-6B298D5311E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280-E985-488C-97CB-34222D40479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079-F46A-4232-A242-222C612F931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900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Real Tim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4560" y="1295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766f"/>
                </a:solidFill>
                <a:latin typeface="Verdana"/>
              </a:rPr>
              <a:t>Definition: Able to respond to events as they occu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80880" y="182880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 online chat is considered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al tim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, while e-mail, discussion boards and forums are asynchronou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1828800" y="4648320"/>
            <a:ext cx="6888240" cy="1635120"/>
            <a:chOff x="1828800" y="4648320"/>
            <a:chExt cx="6888240" cy="1635120"/>
          </a:xfrm>
        </p:grpSpPr>
        <p:pic>
          <p:nvPicPr>
            <p:cNvPr id="224" name="Picture 2" descr=""/>
            <p:cNvPicPr/>
            <p:nvPr/>
          </p:nvPicPr>
          <p:blipFill>
            <a:blip r:embed="rId1"/>
            <a:stretch/>
          </p:blipFill>
          <p:spPr>
            <a:xfrm>
              <a:off x="1828800" y="4648320"/>
              <a:ext cx="68882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5"/>
            <p:cNvSpPr/>
            <p:nvPr/>
          </p:nvSpPr>
          <p:spPr>
            <a:xfrm>
              <a:off x="6333480" y="4695480"/>
              <a:ext cx="1285920" cy="323640"/>
            </a:xfrm>
            <a:prstGeom prst="rect">
              <a:avLst/>
            </a:prstGeom>
            <a:solidFill>
              <a:srgbClr val="ffffff"/>
            </a:solidFill>
            <a:ln w="42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6" name="Picture 3" descr=""/>
          <p:cNvPicPr/>
          <p:nvPr/>
        </p:nvPicPr>
        <p:blipFill>
          <a:blip r:embed="rId2"/>
          <a:srcRect l="7639" t="5470" r="74308" b="58594"/>
          <a:stretch/>
        </p:blipFill>
        <p:spPr>
          <a:xfrm>
            <a:off x="6019920" y="1773360"/>
            <a:ext cx="281916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20:36:27Z</dcterms:created>
  <dc:creator>RRISD</dc:creator>
  <dc:description/>
  <dc:language>en-US</dc:language>
  <cp:lastModifiedBy>RRISD</cp:lastModifiedBy>
  <dcterms:modified xsi:type="dcterms:W3CDTF">2009-03-13T21:32:18Z</dcterms:modified>
  <cp:revision>3</cp:revision>
  <dc:subject/>
  <dc:title>Real Time</dc:title>
</cp:coreProperties>
</file>